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6757-CD96-412C-823E-D1B32F2DC7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Р р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6124-D2C5-45B9-9F58-B2B114ADB1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6288-86DA-42DE-9274-04282ABB0C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6190-E2A9-4593-B63C-37689E9ADD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452E-DA9B-4A07-BAF5-A66942218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A11E-9358-44D8-9DBD-0A1A8FB2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8F61-B407-40E2-90AD-4B1AAA85A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4009-BB20-478C-A972-8F4050559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9004-CCC4-4BD0-BA8D-098230FA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022B-C263-4328-95A3-6958EEDA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905F-740E-4E20-82AD-227BB9BF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9786-B972-4CB7-8DC6-685F5015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D3C6-5D05-49FB-9A3E-198C986C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08D9-C865-429E-B0E9-29F6D843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0248-96B9-4345-9792-FE9603F9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65F7-24E4-4C6B-909C-EF1AA091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C651-FF37-4032-8279-C8C28D1C4FD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ОВУЛАЦИЈА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ОПЛОДЊА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ИМПЛАНТАЦИЈА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</a:t>
            </a:r>
            <a:br>
              <a:rPr sz="4000"/>
            </a:b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РАНИ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РАЗВОЈ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ЗАМЕТ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оф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р Мирјана Варјачи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сл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вулаци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убитк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ај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фоликулар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чност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фоликул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мањуј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крвљеност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фоликул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ни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ил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граниче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м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лој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к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ћелиј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д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шир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нулозн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лој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ак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ста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црвен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л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corpus rubru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нулоз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иш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множавај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већавај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грађујућ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б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липид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блик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акуола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гранулоза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лутеинске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ћелиј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Чи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80%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жутог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л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corpus luteu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Жут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ел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ндокринолошк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рган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лутенизираним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ћелијам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твар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огестерон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д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ејством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LH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астављ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тварањ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страдиол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д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ејством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FS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Максималан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екрециј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21.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ан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циклус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LH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држав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жут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ел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10-14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ан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</a:rPr>
              <a:t>corpus luteum menstruation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Ак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ошл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рудноћ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лог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државањ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жутог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ел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одукциј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огестерон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еузим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hCG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астанк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стељице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</a:rPr>
              <a:t>corpus luteum graviditat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жутог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ел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думир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аутолизом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фагоцитозом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тавр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жиљак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густог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езива 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</a:rPr>
              <a:t>corpus albica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ећин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јајних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ћелиј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рајн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естаје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атрезиј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чињ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ећ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15.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едељ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феталног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живот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рај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менопауз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оворођен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евојчиц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м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2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милион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ед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убертет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400 -500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хиљад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јајних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ћелиј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фоликул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акон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атрезиј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гранулоз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оцит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опадај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статк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клањај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фагоцити 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мест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араст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жиљком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</a:rPr>
              <a:t>corpora candicant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нтерн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иференцирај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д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ејством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LH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активн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луч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андроген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нтерстицијск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ћелиј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Оплодњ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крај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ложеног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процес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уласк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амо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једног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перматозоид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јајну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ћелију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пајање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гам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звој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људск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ић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чи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лодњом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ерматозои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ушкарц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оцит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же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о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ов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рганизам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иг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в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рфолошк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ункционал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зличит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л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ћелије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аме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аја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полно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размножав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50560" y="836280"/>
            <a:ext cx="8569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в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в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орфолошк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функционалн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личит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л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амет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ојил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орај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ђ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цес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иференцијације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гаметогенезу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волуцион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илагођавањ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едуслов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лн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множавањ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лн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множавањ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дразумев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комбинациј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следних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соби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ак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стиж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аријабилност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томства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прокреациј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продукциј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лонирањ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езполног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множавањ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рјабилно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омства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енотипова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слов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ћ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тпорно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актори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ољ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реди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ћ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лагодљиво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мена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животни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слов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нов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волу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жив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лагођав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лно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змножавањ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елил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рганизм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в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тегор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Соматск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грађуј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ки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рга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азмножавај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квално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обо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дентично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епродукцијом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ито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Полн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ћелије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меште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лни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жлездам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онадам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мет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оз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азревај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рел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л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ецијализовани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обни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ханизмом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едукционо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обо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јоз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дукцио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об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јо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опход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лни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ћелија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разумев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мањив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плоидн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ро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ромозо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ма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оматск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46)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аплоида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23)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тивно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лодњо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стал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об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ч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ма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упл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ћ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рој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ромозо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нос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одитељс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ључ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бивањ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аметогенез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лагођавањ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лно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змножавањ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јо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еномск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пи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б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сут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ерматогенез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огенез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24000" y="1268280"/>
            <a:ext cx="8640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јо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дукцио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об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стој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в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застоп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об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јо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дукц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ро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ромозо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јо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I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то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аплоид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ћел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лав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чин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л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змножав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едукц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иплоидног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аплоида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ј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ромозо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krosingo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аздаваја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грегац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омологих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ромозо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вулац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снућ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овулаторн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f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оликул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лобађ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ај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бушн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упљ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акл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спев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шире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мпулар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ајово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д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вентал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лаз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лод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24000" y="765000"/>
            <a:ext cx="83628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иплоид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ћелиј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м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вак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ромозо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в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пи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омолог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аров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)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њим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вак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е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лел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в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пи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си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ромозом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ушко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л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итозо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стај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в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ов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јих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вак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држав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иплоида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рој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ромозом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б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е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лел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вак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војств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ејозо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д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стај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4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ов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јих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вак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м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аплоида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р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ој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ромозом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њим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м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да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е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лел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цесива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минанта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вак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војство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шл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дукци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двајања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) -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сегрегациј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0560" y="692280"/>
            <a:ext cx="87138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мо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четк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ејоз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г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омолог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ромозом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дво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дел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здужн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в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роматид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си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едел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центомер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иближ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аруј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”-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њихов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нутрашњ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роматид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ме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да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иш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сеча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вак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4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ов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м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ругачиј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ено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чев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ајчи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руг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в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личити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дело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чевог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ајчиног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crosingover</a:t>
            </a: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комбинациј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ена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аријабилност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) 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стиж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аметим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ктуел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енераци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плодњ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Геномски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упис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личит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одификациј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дног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стог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ена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д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ст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собине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ок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аметогенез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ај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е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ко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плодњ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личит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ражава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личит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кспресиј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висност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ог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л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тич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ц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ајк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ак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чев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ајчи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ено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квивалентн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н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функционалн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личи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лик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кспресиј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ступај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к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ко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мплантаци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плође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ај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ћелиј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аметогене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ушк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л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ћелије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ерматозоида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перматогене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аметогене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женск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л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ћелије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ај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ћелије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оогене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Сперматогенез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57120" y="2000160"/>
            <a:ext cx="3000600" cy="3786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3428640" y="1770120"/>
            <a:ext cx="526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иференцира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ерматогон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ерматозоид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чи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к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убертет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лни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ракам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јављуј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мен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налић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сперматогон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ерматогони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итозом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ерматогони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Сперматогенез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428760" y="2214720"/>
            <a:ext cx="2290680" cy="3714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2627280" y="1928880"/>
            <a:ext cx="606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ерматогони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ито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мар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ерматоцит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(n-4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мар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ерматоцит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јо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I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кундар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ерматоцит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јо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II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ерматид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(n-23)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аплоид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ел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в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л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круже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у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ртолијеви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елијам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ужај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штит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тпор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чествуј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њиховој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схра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Спермиоген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357120" y="1643040"/>
            <a:ext cx="2857680" cy="3429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3276360" y="1142640"/>
            <a:ext cx="57243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ромен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ојим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перматид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ретварају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зрел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перматозоиде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Настајањ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крозом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окрив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редњу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оловину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језгр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адрж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ензим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омогућавају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родор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перматозоид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мембрану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јајн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току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оплођењ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Згушњавањ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језгр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Настајањ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врат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вих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делов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реп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Одбацивањ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највећег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дел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цитоплазм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перматогониј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зрелог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перматозоид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Calibri"/>
              </a:rPr>
              <a:t>64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дан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Сперматозои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642960" y="1785960"/>
            <a:ext cx="1819080" cy="4525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2714760" y="16430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Једноставн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грађ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глав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врат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реп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Глав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редњ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дв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трећин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крозомск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ап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једро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спуњав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чврст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збијен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хромати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Врат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најкраћ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егмент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најважниј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део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роксималн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центриол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настављ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флагеларн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исте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Реп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арактеристичн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микротубуларн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нтермедијерн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главн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завршн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део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вра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1819080" cy="4525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2571840" y="1770120"/>
            <a:ext cx="612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нтермедијерн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адрж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итохондрије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говора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вара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ТП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нерг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лавн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икротубуларн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руктур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хваљујућ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јој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ерматозои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рећ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врдласти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ичасти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кретим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миналној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лаз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100.000/h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ерматозоид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извед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вако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стис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ок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живот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500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илијард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вак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вулиран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оцит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илијард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ерматозоид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врх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ећањ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ероватноћ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плодњ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зерв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ерматозоид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пидидимис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д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н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покретн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бијај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штитн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ликопротеинск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војниц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личит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ценат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пидидмис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пад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клањ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фагоцитозо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ливање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окраћн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це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олику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и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лаз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ај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меште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нутрашње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р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ајника,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копа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ромал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ки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оликул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вулира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лази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дијум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овулацијск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G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af)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олику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Graaf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фоликул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ста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мордијалн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к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марн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антралн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нтралн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олику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Ооген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357120" y="1643040"/>
            <a:ext cx="3286080" cy="2233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3714480" y="1142640"/>
            <a:ext cx="5429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ај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ел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јвећ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л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б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ајник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оворође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војчиц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рој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ајних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ел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2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4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илио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ад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рајн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мањива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рој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нарх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40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50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иљад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оци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енератвино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ериод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400-50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рет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вулира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48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4ac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3000240" cy="2786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3357720" y="620640"/>
            <a:ext cx="553536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огене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чи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играцијо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лних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ел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онад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метк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д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стај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огон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огоније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итоз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мар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оци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мар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оцит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јо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устав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профаз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мејоз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аз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иплотен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о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адијум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врша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росингове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фа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птот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ахит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иплот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ијакине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28760" y="1785960"/>
            <a:ext cx="2714400" cy="31431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3214800" y="1714320"/>
            <a:ext cx="59292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иплотен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фаз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јоз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ај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ел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ста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уг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15-5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оди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нхибира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нхибиторо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азревањ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оцит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I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г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кретуј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оликулар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елије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марн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олику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ктивацијо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H-H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сови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уберте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улсатилно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крецијо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FSH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LH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игна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аљ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азвој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оликул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антралн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фолику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2357280" cy="3357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2928960" y="1571760"/>
            <a:ext cx="62150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четко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дног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нстрационог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циклус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уђе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8 -12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нтралних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олику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аљ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удби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лекц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минантног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оликул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вис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ктивност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FSH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L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ро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ецептор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онадотроп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ктивност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нз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иво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ероидних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теинских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ормо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утокри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аракри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егул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ханизам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врат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прег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4ac"/>
              </a:solidFill>
              <a:latin typeface="Calibri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571680" y="1714680"/>
            <a:ext cx="2786040" cy="37144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3429000" y="836640"/>
            <a:ext cx="55720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реовулаторном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фоликулу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ктивир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заустављен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мејоз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I-LH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реко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гранулоз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ћелиј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овећав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ооцит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ниво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јон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C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c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М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мањуј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роизводњу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нхибитор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азревањ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ооцит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ОМ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Разбиј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једро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герминалн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везикул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римарној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ооцит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формир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деобно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вретено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након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чег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лед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нафаз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телофаз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деоб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ћелиј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Добијају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ооцита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већим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делом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цитоплазм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рво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примарно</a:t>
            </a:r>
            <a:r>
              <a:rPr b="1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поларно</a:t>
            </a:r>
            <a:r>
              <a:rPr b="1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тел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428760" y="1500120"/>
            <a:ext cx="2571480" cy="3071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3000240" y="1499760"/>
            <a:ext cx="61437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вулаци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мар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оцит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врша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јоз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24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в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ларн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л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бац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ај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ел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лаз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јоз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II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д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еплицир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DN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ад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ста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секундарн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ооцит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аплоид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ел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n-23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л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плоидно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личино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об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пет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устављ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профаз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мејоз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II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момент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оплод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дирањ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ерматозоид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ајн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елиј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око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плодњ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ерматозоид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инос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м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др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аплоидн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рој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ромозом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центриол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блику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еобн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ретен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в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еоб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иго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ај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ћелиј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а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в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стало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њ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плодњ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виј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мбрион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огенез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цитоплазм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штеди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имар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оцит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1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ај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ћелиј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2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ал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функционал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лоцит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вак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ерматоцит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стај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4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ерматид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разлику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перматоците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ооцит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никад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постигне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ниво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амосталне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полне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к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плодњ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оста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врша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јоз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II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па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Ако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оплодњ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дођ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завршав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мејозу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II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само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кад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њеној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цитоплазм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већ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налаз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једро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сперматозои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Оплод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јакула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стој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сеч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2,75ml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ерм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2-6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182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ло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ерматозои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66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лио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/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30%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руктур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иохемијск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бнормал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нимал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слов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лодно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ушкарц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 20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лио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ерматозои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/ml,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г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40%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кретни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60%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ормал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личи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л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сперматозои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вод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аги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мпул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ајовод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д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ешав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плодњ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мак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ких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15cm,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даљин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ерматозоид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елаз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1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час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рзино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3mm/m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ок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вог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ут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вршава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се: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зревањ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капацитација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руктур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ме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лазматској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крозомској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ембрани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ње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тпу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станак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над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едњег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ел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лав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ерматозоида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опходн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дор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ајн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ћелиј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реовулаторн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(Graaf)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фолику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85840" y="1571760"/>
            <a:ext cx="4286160" cy="4071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ромер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25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м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овршину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јајник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збочуј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Грађ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пољ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teca externa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т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inter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нутар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базалн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мембран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виш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лојев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гранулоз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ћел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Ексцентрично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остављен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брежуљак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ом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налаз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ооцит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-cumulus oophpr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к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ут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мпул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ајово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шав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лекц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ерматозои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илаз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пре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јвећ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уб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четк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ласк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рвикс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рвикалн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луз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182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лио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шупљин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териц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сп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лио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чет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ајово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1000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ст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лод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20-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Активација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сперматозои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оликулар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чно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л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мпул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ајово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ко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вула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држ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пстанц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у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емотактичк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ерматозоиде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брзав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крет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пов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смерав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оци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Акрозомска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реакц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79280" y="907560"/>
            <a:ext cx="8640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ампул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јајовод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перматозоид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олаз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нтакт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оцит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рон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умулус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мплексо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в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авладај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баријер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рон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адијате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активним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кретим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моћ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хијалоуронидаз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ћелиској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мембрани)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олаз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он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елуцид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Гликопротеин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он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елуцид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ZP3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пецифичн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ецептор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епознај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беланчевин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глав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перматозоида,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езуј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ндукуј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акрозомск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еакцију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слобаћањ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акрозина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неураминидаз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ејств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вих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нзим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крет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епа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буш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с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анал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он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елуциду.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мембран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оцит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перматозоид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тиж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мину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лодњ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же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мисл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а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ди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мбра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ерматозои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оцит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чет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в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о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игота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12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ухват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дњ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дира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ерматозоид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цитоплазм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ртикал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еак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ктивац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оци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ингам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357120" y="0"/>
            <a:ext cx="878688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Продирање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сперматозоида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цитоплазму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ооцит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шав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пање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њихови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ћелијски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мбрана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мбра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ерматозои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грађу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мбран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оци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п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ерматозои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ва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шчезав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ко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ви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об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иг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ерматозои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игот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нос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аплоид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згр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нтриол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споставља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об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рете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игот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тохондр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термедијерн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п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Кортикална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реак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ајањ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мбра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ерматозои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оцит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ња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иохемијск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рактеристик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елуциде,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иш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ж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ерматозоид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др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њ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оналн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реак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во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акцијо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езбеђу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лодњ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оцит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м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дни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ерматозоидо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носперм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Активација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ооци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ко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ртикал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акци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оцит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ктивир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еобног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етаболичког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стој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вршав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ејоз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бацу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кундарн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лоцит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њен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аплоидн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др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зив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женски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пронуклеу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94560" indent="-3286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др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ерматозоид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бубр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ромати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екондензир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ста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мушки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пронуклеу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94560" indent="-3286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б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нуклеус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плицир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ромозом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здужн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дел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2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роматид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Сингамија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в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нуклеус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ближ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мбра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д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у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ромозом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меша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једничк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згр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ћ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з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моћ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нтриол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ерматозои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орми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деобно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вретено,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в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о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раздања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игот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тог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увек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двоћелијс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71680" y="285840"/>
            <a:ext cx="835812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000760" cy="3857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932000" y="16002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рануло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ђусобн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веза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сни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ојевим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nexus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једн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оцито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варај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ликопротеинск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војниц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zona peluci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Браздање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вих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итотских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еоб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плође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ај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ћелије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разд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ршин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иго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мбрионал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ластомер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ок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еоб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сту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ећ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вако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еобо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мањују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стај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нутар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о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елуциде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морула 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дсећ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у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кспанзи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метк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лаз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дијум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ластоцист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раздањ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врањ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ластоцист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ешав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ут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игот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ајовод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ем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атериц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ра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3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а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четко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3.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а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плодњ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мбрио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8-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ћели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ко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ивоу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 3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еоб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вршене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све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бластомере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својим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развојним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могућностима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идентичне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оплођеној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ооцити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тотиопотенц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к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во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дијум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клон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ништ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д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ластомер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докнађу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ез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следиц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аљ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вој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мбрио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33%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онозиготних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лизанац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стај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во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ивоу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иамниат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ихориат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428760" y="214200"/>
            <a:ext cx="828648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Компакција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морул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8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ћелијског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ијум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азвој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в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балстомер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кругл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елаз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8-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ћелијског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16-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ћелијск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тадијум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пољашњих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бластомер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тпун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круж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једн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ве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стан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нутрашњост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морул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ључн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ренутак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еимплантационој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фаз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азвоја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компакција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моруле </a:t>
            </a:r>
            <a:r>
              <a:rPr b="1" lang="sr-RS" sz="2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в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азличит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пулациј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ћелија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285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пољашњ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пителна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трофобласт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285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нутрашњ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ембриобласт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чи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ош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лурипотент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пољашњ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бластомер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рофобласт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пљоште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међућелијск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чврст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појеви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zonula occludens-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чин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метаболочк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олацију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бриобласт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авис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рофоблас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мбрио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4.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ко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лод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32-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ћелијско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дијум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зво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лаз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шћ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ајово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терицу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офобла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чи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лаз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чно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ђ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мбриобласт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ста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балстоце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428760" y="1857240"/>
            <a:ext cx="3500280" cy="4000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60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елијско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адијум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азво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орул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ста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а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алстоци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с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алстоцист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11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елиј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10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рофобласт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1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мбриобла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рофобласт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блаж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ластоцел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уралн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з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мбриобласт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лар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Имплантација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214200" y="1928880"/>
            <a:ext cx="3684600" cy="29145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бухват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2.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дељ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азво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ракетриш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тензив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лифераци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офобла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л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ме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мбриобла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активаци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X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ромозом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мбрионим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женског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0560" y="836640"/>
            <a:ext cx="84358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међ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3.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4.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ан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плодњ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ан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балстоцист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шупљин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материце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адржав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2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- 3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ан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им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хра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љив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материј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екрет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териних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жлезд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Бластоцист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ек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рфобласт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шаљ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хормонск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игнал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ндометријум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2,P,hCG),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ндометријум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физичког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одир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епознај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рудноћу 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еагуј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ецидуалном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еакцијо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6.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ан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рфобласт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лучуј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нзим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азграђуј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он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елуцид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бластоцитст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овуч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укотин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ларним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рофобластом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ион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з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ндометрију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аљим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ејством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нзим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азграђуј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ндометријум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сађуј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бластоцис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лифериш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рофобласт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његов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ктив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рши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ећав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варање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сиц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иференцир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в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лоја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инцициотрофобласт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цитотрофоблас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Женск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л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и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етермниса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исуство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в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X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ромозом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ећ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суство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ромозом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Присуство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два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штетно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предозирање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гена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па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истовремено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имплантацијом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почиње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инактивација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једног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X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постане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грудвица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транскрипцијски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блокираног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хроматина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Барово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тел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једини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ћелија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сумиц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активира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X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ромозом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ез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зи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рекл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јк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ц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а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женс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об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заик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нос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X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ромоз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4000680" cy="3786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в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лој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рануло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ел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ру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мота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он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елуцид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ај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-corona radi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Двослојни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аметни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штит 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епибласт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хипоблас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285840" y="4286160"/>
            <a:ext cx="2828880" cy="16192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3286080" y="1643040"/>
            <a:ext cx="58579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току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мплантациј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ембриобласту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дв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ромен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зложен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бластоцелу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распоред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танк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епителн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лој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хипобласт </a:t>
            </a:r>
            <a:r>
              <a:rPr b="1" lang="sr-Latn-CS" sz="2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примитивни</a:t>
            </a:r>
            <a:r>
              <a:rPr b="1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ендодерм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он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виц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шир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нутрашњој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тран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муралног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трофобласта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таварњ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жуманчан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ес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Течност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међу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осталим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ћелијам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ембриобласта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зачетак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мнионск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шупљин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остају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риљубљен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з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хипобласт </a:t>
            </a:r>
            <a:r>
              <a:rPr b="1" lang="sr-Latn-CS" sz="26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епибласт </a:t>
            </a:r>
            <a:r>
              <a:rPr b="1" lang="sr-Latn-CS" sz="2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примитивни</a:t>
            </a:r>
            <a:r>
              <a:rPr b="1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ектодер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2"/>
          <a:stretch/>
        </p:blipFill>
        <p:spPr>
          <a:xfrm>
            <a:off x="357120" y="1643040"/>
            <a:ext cx="28576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Гаструлација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Браздањем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игот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астал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четн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мас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ћелиј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Компакцијом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моруле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двоји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рофобласт,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адаптациј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мбрион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нтраутерин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азвој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Имплантацијом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сигуран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утритивн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нергетск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слов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мбриогенез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мбриобласт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еобликова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вослојн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аметн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штит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пибласт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хипобласт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ек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ад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лаз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фаз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нтензивног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азвоја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гаструлацију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тварањ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рослојног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аметног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штит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ефеинитивним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аметним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листићим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ектодерм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мезодерм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ендодер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4ac"/>
              </a:solidFill>
              <a:latin typeface="Calibri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357120" y="1500120"/>
            <a:ext cx="3714840" cy="22384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4071600" y="499680"/>
            <a:ext cx="50720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аструлац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чи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14.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а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плод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6800" indent="-339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редишњој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иниј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пибласт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јављу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митив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уг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дебља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њеног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дњег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рај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еснеров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ворић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митивн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вори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6800" indent="-339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друч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пибласт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нир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убин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лужећ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ипобласто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тпором 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лаж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ло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ндодер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зодер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пибласт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ста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финитвн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ктодер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2"/>
          <a:stretch/>
        </p:blipFill>
        <p:spPr>
          <a:xfrm>
            <a:off x="285840" y="4000680"/>
            <a:ext cx="37148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ипобласт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честву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варњ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л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мбрио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мешта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и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жуманча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е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Цело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тело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ембрион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настаје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амо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једне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убпопулације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ембриобласта 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епибласт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двослојног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аметног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шти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Биолошко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начење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гаструла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лојевит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споређивањ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мбрионалних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ћелиј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р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мет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лист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могућав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њихов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ндуктивн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нтерреакциј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јој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снив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орфогенез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ифернцијациј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рга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имитив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уг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ње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ранијалн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ставак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Chorda dorsalis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в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с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илатерал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иметри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л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јој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снив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пшт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ла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његов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ђ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Критичан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период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развоја 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поремећаји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доводе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најтежих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последица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даљи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развој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Почетак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органогенез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аструлациј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ра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14.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18.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а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18.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а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ко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плодњ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четак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рганогенезе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в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чествиј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ктодерм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урализациј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езодер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гментирањ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аскулогенез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ндодер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кључу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шт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асни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вијање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метног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шти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асн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ош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аструлациј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ређе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ест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ез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езодерм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д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ндодер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иректн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слањ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ктодер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укофарингеал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ембра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лаз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игестивн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исајн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цев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лоакал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ембрана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лаз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игестив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цев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окраћних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лних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анал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ћелијск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спект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рганогенез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честву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ханиза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Раст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лиферац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ел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Дифернцијациј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ункционал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ецијализац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ел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Миграциј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ћелиј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цел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уралн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реб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данц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ел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раста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ксо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Програмиран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ћелијск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смрт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попто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олекулског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спект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ви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цесим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едход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лектив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ктивација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ранскрипциј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кспресиј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е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нач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једини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пулацијам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ћелиј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отипотентног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еном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плође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оцит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ктивирај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м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н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ен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пходн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ржавањ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сновних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функциј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ћелијск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линије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лектив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кспресиј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ена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маћинск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ени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housekeeping ge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четк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рганогенез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ебн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лог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ма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homeobox-Hox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ген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гментацијск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е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правља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штом организацијо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л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уж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раниокаудал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в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звија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рга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чи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ункци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ме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тељица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нтрал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рв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исте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рдиоваскулар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ист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в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нтрак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рц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21.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мбрионал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рвоток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28.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рз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CNS-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зроку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раниокаудал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виј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метн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штита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ифо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мбрио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шире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мнионск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шупљи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вод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атералн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виј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авилно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28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невном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циклус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вулациј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бичн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ешав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међ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13.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14.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ан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стој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иш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хипотез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механизм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вулациј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вишењ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нтрафоликуларног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итиск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...),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ал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ајновиј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говор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ејств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отеолитичких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хидролитичких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нзим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колагеназа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плазмин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чиј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ндукциј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требн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гонадотропин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вулациј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</a:rPr>
              <a:t>mutificatio</a:t>
            </a:r>
            <a:r>
              <a:rPr b="1" lang="sr-RS" sz="2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јајн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ћелиј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мотан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ћелијам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k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рон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адиат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лебд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фоликуларној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ечност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лаб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ез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гранулоз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ћелиј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мест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етељек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умулус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лик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мбрио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љоснат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њ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илиндрича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ст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рем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ндодер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в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гестивн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в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митив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ре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мат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оцит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ил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нтакт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ерматозоидо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лод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84%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мпланти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69%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4.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дељ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жив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42%,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8.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дељ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35%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од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31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Губитак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полођених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ооцит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6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едел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ајиспупченијег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мест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вршин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јајник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већаног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нтрафоликуларног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итиск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естај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оток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рв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ак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олаз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омен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бој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озирност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стигм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02840" indent="-3355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едел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тигм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д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ејством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отеолитичких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нзим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олаз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скањ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ид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Графовог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фоликул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астал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твор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лаз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јајн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ћелиј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кружен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оном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елуцидом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над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алаз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лојев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гранулоз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ћелиј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рон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адиат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02840" indent="-3355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ериферн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рон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еостал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умулус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офорус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ооцита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корона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кумулус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комплекс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нфудибулу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ајовод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ивиче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фимбрија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стаст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данц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иближав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ршин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ајник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вршеној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вулациј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ихват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ајн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ћелиј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ктивност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фимбриј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ишић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нтракци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ид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ајовод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гатива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итисак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сисавај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ајн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ћелиј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ено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ширеног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ел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уб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мпул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д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ешав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плодњ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лазак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оцит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ро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умулус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мплекс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мпуларн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е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ајовод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ра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3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15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ину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13:01:29Z</dcterms:created>
  <dc:creator>USER</dc:creator>
  <dc:description/>
  <dc:language>en-US</dc:language>
  <cp:lastModifiedBy>Machina</cp:lastModifiedBy>
  <dcterms:modified xsi:type="dcterms:W3CDTF">2016-04-05T16:29:36Z</dcterms:modified>
  <cp:revision>93</cp:revision>
  <dc:subject/>
  <dc:title>ОВУЛАЦИЈА,ОПЛОДЊА, ИМПЛАНТАЦИЈА РАНИ РАЗВОЈ ЗАМЕТКА</dc:title>
</cp:coreProperties>
</file>