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6D0-AB9C-45F3-BAD2-0ABC5CDB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64E-C7F6-41E5-B35F-F4BA1E6A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A33-6A41-49B1-A4BF-7ECFBF6E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B28-E945-4E3B-924A-B0601DA5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C05D-3321-43F9-840E-5633521D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F24A-9E40-44C6-B84B-E062E6D2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729C-8EC7-4720-B2FF-650A9C3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6999-7619-4CBE-9086-F7C8F922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2EE5-0597-4C2C-851A-8F513583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CAEF-8479-4C33-88E5-D01DCA8F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BF08-B8BB-4C3C-9216-5FE729F7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CF0-70F2-46CE-8A0E-1971E58E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2618-F552-4077-86BB-2DF91080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BDBB-5EC7-4571-B351-42DA6A6A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9A55-8B2D-4039-81C5-7AEA28B7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8B3B-F2E0-4669-A72B-60FFABA0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CF69-EB7F-4FD2-B939-C6CD5E4F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D89-7FB7-4405-BC85-6150F4DB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7FA-FC13-4477-9133-3C2F8CA1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181-2E04-4B11-B532-BABCDBFA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FC6-9C59-40F0-B023-4C052997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7F7-4792-4BD1-9002-2BAAF51A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CFD-DA4D-4EE4-B5BE-C8C1055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8AB-9219-479B-BC56-ECF8384F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FF1D-D56C-433B-A7AC-837C8768B0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2743-D5F5-4486-B93E-CD6ED0495AE7}" type="slidenum"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907920"/>
            <a:ext cx="8763120" cy="43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 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Ембрионални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фетални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развој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        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Раст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развој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плода</a:t>
            </a: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Проф</a:t>
            </a: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др</a:t>
            </a: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М</a:t>
            </a: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Варј</a:t>
            </a: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чић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мбрион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8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деља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гестациј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181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јављуј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ст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екстремите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еп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еста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тпу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лав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кругл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чи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ловин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ужи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ембрио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Вид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ч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творе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тек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јављуј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ч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кап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пољашњ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енитали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ис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тпуност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азвиј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Фетал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развој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9.-12.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г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6019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лав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чи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ловин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ужи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фету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двостручуј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ежин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е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атварај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о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орњ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екстремитет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стиж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ужи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оњ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екстремитет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р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финуш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енитал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чи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твара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р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Јављај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фетал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кре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Фетус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26. – 29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г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ож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ежив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ч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твар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ст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ж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ста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главно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сто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одукци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ритроц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Фетус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30. – 34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г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6275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личи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аст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7-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ж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црве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исутан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ветлос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ефлек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Фетус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35. – 38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г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2437920"/>
            <a:ext cx="820872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бим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глав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бдоме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зједначуј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36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оценат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аст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ко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16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Кардиоваскулар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е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рв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чињ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циркулиш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рајем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3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ц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азви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чев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18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19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а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з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ардијалних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трак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ста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ча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ц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имарно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ц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м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дн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мор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еткомо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дел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4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шупљин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ста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4. –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ритичан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ери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азво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ц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20.–50.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Респиратор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е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чињ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азвој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4.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азвој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ви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4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а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лвеолар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ери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стављ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сл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ође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овољ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личи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урфактант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танк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лвеолар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мбра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еобходн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декватн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еспираторн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ункциј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ођењ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Урогенитални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е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ринар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Пронефрос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- 4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езонефрос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- 4-8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етанефрос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5.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из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њега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азвија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бубрег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алаз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првенсвено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карлици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п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игрирај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абдом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9360" y="11430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енитал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Пол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р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тилизациј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злик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 7.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Без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хром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а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зв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ј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j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п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в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и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ми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se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појављ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10.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Индифер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тни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тадијум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9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п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љн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италиј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блик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12.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Тестиси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пуштај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u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28.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Централ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рв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е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оловином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3.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з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ервне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лоч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Кранијал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ервне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цев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формир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моз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уж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ервне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цев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формир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кичмену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можди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ајвећ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ризик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штећењ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ЦНС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остој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змеђу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8.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16.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ндокри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е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Хипоталамус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хипофиз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ункционал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18-20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Штитаст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жлез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азви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2.-7.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ункционал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ста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змеђ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18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20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ратиреоид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жлез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12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ндокри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нкреас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етал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нсулин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10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дбубреж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жлез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р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4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дул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тероидогенез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7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Latn-CS" sz="40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CS" sz="4000" spc="-1" strike="noStrike">
                <a:solidFill>
                  <a:srgbClr val="ccffff"/>
                </a:solidFill>
                <a:latin typeface="Tahoma"/>
              </a:rPr>
              <a:t>Фазе</a:t>
            </a:r>
            <a:r>
              <a:rPr b="1" lang="sr-Latn-C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000" spc="-1" strike="noStrike">
                <a:solidFill>
                  <a:srgbClr val="ccffff"/>
                </a:solidFill>
                <a:latin typeface="Tahoma"/>
              </a:rPr>
              <a:t>у</a:t>
            </a:r>
            <a:r>
              <a:rPr b="1" lang="sr-Latn-C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000" spc="-1" strike="noStrike">
                <a:solidFill>
                  <a:srgbClr val="ccffff"/>
                </a:solidFill>
                <a:latin typeface="Tahoma"/>
              </a:rPr>
              <a:t>развоју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Ембрионал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8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Фетал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9.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40.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Н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   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Дигестив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ред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рев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фаринкс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оњ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еспираторног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истем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езофагус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желудац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уоден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јетр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билијар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исте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ред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рев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истал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уоден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јејун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ле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ек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апендикс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асцедент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рансверзалног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ол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ад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рев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рансверзалног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сцедент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олон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игмоид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олон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ект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орњ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аналног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анал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Чиниоци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који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утичу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на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фетални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раст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су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енетск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тенцијал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а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тпор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аст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спуње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слов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енетск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редиспозициј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ођ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зражај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Фактор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околи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вирус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метал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раче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Генетски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потенцијал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за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раст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плода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чине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асн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рекл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мај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л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оворођенчет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исуств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ромозом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ас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тензивниј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је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стељиц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тензивни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одир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цидуалн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ткив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. Y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ромозом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оизвод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нажни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G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 X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ромозом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лог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ормо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ормо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аст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тиреоид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ормо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сули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оматомеди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Фактор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околи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начај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аст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адморск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ви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арцијал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итиса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исео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Раст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дужину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бржи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раном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раздобљу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трудноће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:</a:t>
            </a:r>
            <a:br>
              <a:rPr sz="2400"/>
            </a:b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-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3.-5.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лм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–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износи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број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месеци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трудноће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на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квадрат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.</a:t>
            </a:r>
            <a:br>
              <a:rPr sz="2400"/>
            </a:b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-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после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5. 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лм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–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број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месеци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трудноће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помножен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са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5.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524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рас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тежи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фетус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26. – 32-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150-18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љн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33. – 38.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22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љн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39.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26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љн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40.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9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41.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7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42.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5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осеча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нев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ирас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фетус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12,5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невн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мбрион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4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дељ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5181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Брз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ас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Кранијал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або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Каудал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аб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жуманча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врећ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корпорир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ембрио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едњ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цре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упча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врпц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ипајањ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телес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етељк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вентралн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тран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емб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Лев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с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латерал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аб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тварањ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редње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мбрион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5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деља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гестациј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Брз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аст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лав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нтензиван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азвој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моз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роме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облик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ел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м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мбрион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6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деља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гестациј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лав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мног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већ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однос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јављуј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екстремите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здужуј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врат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ру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мбрион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7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деља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гестациј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мањуј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омуникациј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змеђ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римитивног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рев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жуманча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врећ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рев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лаз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екстраембрионал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ел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0:38:15Z</dcterms:created>
  <dc:creator>Registered User</dc:creator>
  <dc:description/>
  <dc:language>en-US</dc:language>
  <cp:lastModifiedBy>Machina</cp:lastModifiedBy>
  <dcterms:modified xsi:type="dcterms:W3CDTF">2014-03-25T18:59:42Z</dcterms:modified>
  <cp:revision>20</cp:revision>
  <dc:subject/>
  <dc:title>Embrionalni i fetalni razvoj  Rast i razvoj ploda</dc:title>
</cp:coreProperties>
</file>